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56C-A0D4-4798-AC6D-5DD9D38E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8B8-5EC7-459F-9D8C-F0FEFD2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C63-E2B8-4825-BE53-4582B0B9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943-3C52-4C37-BF86-C225E148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C61C-6862-4E71-9DFF-96FD8C2E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A12-5B0D-4EE1-8F3C-1ADE8CE6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7AA1-BE96-4E3E-846D-680D2820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D734-7C80-466C-A3EF-CDF38E08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B5C-FD54-40F9-8529-4B526EE1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5A5E-908A-485D-93A7-5A7A92B8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C1A6-0731-4F92-837F-D645193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6E1-14F1-4853-A9F3-B6CE87CA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F6AC-83A0-4A25-85C2-24FB141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33F3-AEB8-4C8B-99A1-EF8CBC5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A650-702E-4F14-894A-B94E3A51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FCA6-2964-4096-B756-87099023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DDBB-FB58-4932-ADF0-507268E9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338-B662-49BC-83E0-918C779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B01-DCE3-47CC-BB57-C33CC831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BBA-4168-4120-AA49-ED30F190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F44-1B20-430B-96F7-9A7AD887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346-677D-4947-A93F-15B808E3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9A0-91FC-4D07-9B7D-6054470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D61-6252-4401-A802-A766375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9537" t="0" r="258" b="364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EA8-56A1-4D4D-9971-67A8D4EF9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112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5708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0000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04472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18728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33344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763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6192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76220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90800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05092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219564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23385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48436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62728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277344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29163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06216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20508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34980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349236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363852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378144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39243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"/>
          <p:cNvSpPr/>
          <p:nvPr/>
        </p:nvSpPr>
        <p:spPr>
          <a:xfrm>
            <a:off x="40672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421308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"/>
          <p:cNvSpPr/>
          <p:nvPr/>
        </p:nvSpPr>
        <p:spPr>
          <a:xfrm>
            <a:off x="435600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450072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"/>
          <p:cNvSpPr/>
          <p:nvPr/>
        </p:nvSpPr>
        <p:spPr>
          <a:xfrm>
            <a:off x="464328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478944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49323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507672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21964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36580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50872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530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600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21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472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2764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056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692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930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600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180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708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816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47240" y="1413000"/>
            <a:ext cx="7128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980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53272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75640" y="1413000"/>
            <a:ext cx="7164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9000"/>
            <a:ext cx="885672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9537" t="0" r="258" b="364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6CE-8DD5-46A1-A87D-D8DD1F848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56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9856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8584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49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78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040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656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494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384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3676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29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58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456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607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09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70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256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548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456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892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18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52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820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692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420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32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620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691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52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256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454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420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8036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232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6908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1200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5672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9928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45440" y="2852640"/>
            <a:ext cx="7164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3128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4200" y="2852640"/>
            <a:ext cx="71280" cy="71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89000"/>
            <a:ext cx="885672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PU Simulation and Render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Volumetric Effects for Computer Games and Virtual Environ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68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ger lurks around every corne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55280" y="1630800"/>
            <a:ext cx="2881800" cy="2299320"/>
            <a:chOff x="755280" y="1630800"/>
            <a:chExt cx="2881800" cy="2299320"/>
          </a:xfrm>
        </p:grpSpPr>
        <p:sp>
          <p:nvSpPr>
            <p:cNvPr id="206" name=""/>
            <p:cNvSpPr/>
            <p:nvPr/>
          </p:nvSpPr>
          <p:spPr>
            <a:xfrm rot="20991000">
              <a:off x="899640" y="1844280"/>
              <a:ext cx="259236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mok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i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young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991000">
              <a:off x="972360" y="1915920"/>
              <a:ext cx="2448000" cy="17287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2560" y="4367520"/>
            <a:ext cx="2881440" cy="2299320"/>
            <a:chOff x="682560" y="4367520"/>
            <a:chExt cx="2881440" cy="2299320"/>
          </a:xfrm>
        </p:grpSpPr>
        <p:sp>
          <p:nvSpPr>
            <p:cNvPr id="209" name=""/>
            <p:cNvSpPr/>
            <p:nvPr/>
          </p:nvSpPr>
          <p:spPr>
            <a:xfrm rot="609000">
              <a:off x="826920" y="4581000"/>
              <a:ext cx="259236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lar fla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eriously har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you and othe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round yo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609000">
              <a:off x="899280" y="4653000"/>
              <a:ext cx="2448000" cy="17287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769720" y="1632600"/>
            <a:ext cx="2787840" cy="2153520"/>
            <a:chOff x="5769720" y="1632600"/>
            <a:chExt cx="2787840" cy="2153520"/>
          </a:xfrm>
        </p:grpSpPr>
        <p:sp>
          <p:nvSpPr>
            <p:cNvPr id="212" name=""/>
            <p:cNvSpPr/>
            <p:nvPr/>
          </p:nvSpPr>
          <p:spPr>
            <a:xfrm rot="390600">
              <a:off x="5867280" y="1773360"/>
              <a:ext cx="259236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ire c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amage th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perm a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crease fertilit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390600">
              <a:off x="5939640" y="1844640"/>
              <a:ext cx="2448000" cy="17287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94920" y="4366080"/>
            <a:ext cx="2883240" cy="2302200"/>
            <a:chOff x="5794920" y="4366080"/>
            <a:chExt cx="2883240" cy="2302200"/>
          </a:xfrm>
        </p:grpSpPr>
        <p:sp>
          <p:nvSpPr>
            <p:cNvPr id="215" name=""/>
            <p:cNvSpPr/>
            <p:nvPr/>
          </p:nvSpPr>
          <p:spPr>
            <a:xfrm rot="20986800">
              <a:off x="5940360" y="4581000"/>
              <a:ext cx="259236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uk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e high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ictiv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n't 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986800">
              <a:off x="6013080" y="4652640"/>
              <a:ext cx="2448000" cy="17287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266920" y="39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health ministers war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948360" y="4581360"/>
          <a:ext cx="1925640" cy="17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4581360"/>
                    <a:ext cx="192564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44400" y="4581360"/>
          <a:ext cx="133524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400" y="4581360"/>
                    <a:ext cx="133524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7020000" y="2708280"/>
          <a:ext cx="180324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2708280"/>
                    <a:ext cx="18032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68360" y="2684520"/>
          <a:ext cx="1676520" cy="15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2684520"/>
                    <a:ext cx="167652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fast, simple, and harmless way to experience and control these phenome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not be afraid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476360" y="2781360"/>
            <a:ext cx="6696000" cy="3527280"/>
            <a:chOff x="1476360" y="2781360"/>
            <a:chExt cx="6696000" cy="3527280"/>
          </a:xfrm>
        </p:grpSpPr>
        <p:sp>
          <p:nvSpPr>
            <p:cNvPr id="229" name=""/>
            <p:cNvSpPr/>
            <p:nvPr/>
          </p:nvSpPr>
          <p:spPr>
            <a:xfrm>
              <a:off x="1476360" y="2781360"/>
              <a:ext cx="6696000" cy="3527280"/>
            </a:xfrm>
            <a:prstGeom prst="irregularSeal2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502000">
              <a:off x="2722320" y="3571560"/>
              <a:ext cx="3724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PU Sim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Ren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Volumetric Effects f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 Games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rtual Environ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0920" y="630864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PUs &amp; Hardware Session: Friday, September 2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2005. 11:00 - 12:30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Burke Theatre.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9:10:32Z</dcterms:created>
  <dc:creator>Jens Krüger</dc:creator>
  <dc:description/>
  <dc:language>en-US</dc:language>
  <cp:lastModifiedBy>Jens Krüger</cp:lastModifiedBy>
  <dcterms:modified xsi:type="dcterms:W3CDTF">2005-08-30T20:27:08Z</dcterms:modified>
  <cp:revision>6</cp:revision>
  <dc:subject/>
  <dc:title>Folie 1</dc:title>
</cp:coreProperties>
</file>