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22.png" ContentType="image/png"/>
  <Override PartName="/ppt/media/image10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2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9853" t="15118" r="21503" b="151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56360" y="662148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Tahoma"/>
              </a:rPr>
              <a:t>computer graphics &amp; visua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390240" y="6280200"/>
            <a:ext cx="6777000" cy="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139160" y="6053040"/>
            <a:ext cx="1690560" cy="64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19853" t="15118" r="21503" b="151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38188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7640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Linear Algebra Operators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 for GPU Implementation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  of Numerical Algorithms</a:t>
            </a:r>
            <a:endParaRPr b="1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52280" y="297144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. Krüg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. Westerman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81360" y="4343400"/>
            <a:ext cx="3581280" cy="1402560"/>
            <a:chOff x="2781360" y="4343400"/>
            <a:chExt cx="3581280" cy="1402560"/>
          </a:xfrm>
        </p:grpSpPr>
        <p:sp>
          <p:nvSpPr>
            <p:cNvPr id="84" name=""/>
            <p:cNvSpPr/>
            <p:nvPr/>
          </p:nvSpPr>
          <p:spPr>
            <a:xfrm>
              <a:off x="2781360" y="5408640"/>
              <a:ext cx="358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ahoma"/>
                </a:rPr>
                <a:t>computer graphics &amp; visual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3059280" y="4343400"/>
              <a:ext cx="3035160" cy="11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152280" y="586728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a"/>
                </a:solidFill>
                <a:latin typeface="Verdana"/>
              </a:rPr>
              <a:t>Technical University Mun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478240" y="4100400"/>
            <a:ext cx="4189320" cy="19353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Linear Algebra Operators on GPUs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ctor/Matrix repres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D textures best we can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-fragment vs. per-vertex op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texture memory bandwid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d-write access, dependent fetch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92360" y="4113360"/>
            <a:ext cx="51307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sparse matrix repres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xtures do not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litting yields highly fragmented tex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icult to find optimal part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a: encode non-zero entries in vertex ar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49800" y="3608280"/>
            <a:ext cx="2194560" cy="2413440"/>
            <a:chOff x="649800" y="3608280"/>
            <a:chExt cx="2194560" cy="2413440"/>
          </a:xfrm>
        </p:grpSpPr>
        <p:graphicFrame>
          <p:nvGraphicFramePr>
            <p:cNvPr id="149" name=""/>
            <p:cNvGraphicFramePr/>
            <p:nvPr/>
          </p:nvGraphicFramePr>
          <p:xfrm>
            <a:off x="847080" y="3846240"/>
            <a:ext cx="1997280" cy="1973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47080" y="3846240"/>
                      <a:ext cx="1997280" cy="197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1654560" y="57754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9800" y="47304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44320" y="360828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Linear Algebra Operators on GPUs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240000" y="4141800"/>
            <a:ext cx="1633680" cy="965160"/>
            <a:chOff x="3240000" y="4141800"/>
            <a:chExt cx="1633680" cy="965160"/>
          </a:xfrm>
        </p:grpSpPr>
        <p:graphicFrame>
          <p:nvGraphicFramePr>
            <p:cNvPr id="156" name=""/>
            <p:cNvGraphicFramePr/>
            <p:nvPr/>
          </p:nvGraphicFramePr>
          <p:xfrm>
            <a:off x="3240000" y="4437000"/>
            <a:ext cx="1633680" cy="669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40000" y="4437000"/>
                      <a:ext cx="163368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>
              <a:off x="3631680" y="4141800"/>
              <a:ext cx="99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ertex Array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804960" y="3817800"/>
            <a:ext cx="1788840" cy="141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3080" y="4068720"/>
            <a:ext cx="1368360" cy="141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74680" y="4545000"/>
            <a:ext cx="912960" cy="141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44640" y="5084640"/>
            <a:ext cx="1217520" cy="141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57360" y="4070520"/>
            <a:ext cx="316080" cy="1411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92200" y="5084640"/>
            <a:ext cx="525600" cy="141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24080" y="3600360"/>
            <a:ext cx="1017720" cy="955800"/>
          </a:xfrm>
          <a:custGeom>
            <a:avLst/>
            <a:gdLst/>
            <a:ahLst/>
            <a:rect l="l" t="t" r="r" b="b"/>
            <a:pathLst>
              <a:path w="641" h="602">
                <a:moveTo>
                  <a:pt x="0" y="138"/>
                </a:moveTo>
                <a:lnTo>
                  <a:pt x="41" y="1"/>
                </a:lnTo>
                <a:lnTo>
                  <a:pt x="438" y="0"/>
                </a:lnTo>
                <a:lnTo>
                  <a:pt x="641" y="602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54240" y="4221000"/>
            <a:ext cx="1087560" cy="536760"/>
          </a:xfrm>
          <a:custGeom>
            <a:avLst/>
            <a:gdLst/>
            <a:ahLst/>
            <a:rect l="l" t="t" r="r" b="b"/>
            <a:pathLst>
              <a:path w="1074" h="347">
                <a:moveTo>
                  <a:pt x="0" y="0"/>
                </a:moveTo>
                <a:lnTo>
                  <a:pt x="122" y="111"/>
                </a:lnTo>
                <a:lnTo>
                  <a:pt x="790" y="115"/>
                </a:lnTo>
                <a:lnTo>
                  <a:pt x="1074" y="347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87640" y="4645080"/>
            <a:ext cx="1157040" cy="266760"/>
          </a:xfrm>
          <a:custGeom>
            <a:avLst/>
            <a:gdLst/>
            <a:ahLst/>
            <a:rect l="l" t="t" r="r" b="b"/>
            <a:pathLst>
              <a:path w="1123" h="172">
                <a:moveTo>
                  <a:pt x="0" y="0"/>
                </a:moveTo>
                <a:lnTo>
                  <a:pt x="207" y="172"/>
                </a:lnTo>
                <a:lnTo>
                  <a:pt x="1123" y="16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79640" y="5013360"/>
            <a:ext cx="1263600" cy="401760"/>
          </a:xfrm>
          <a:custGeom>
            <a:avLst/>
            <a:gdLst/>
            <a:ahLst/>
            <a:rect l="l" t="t" r="r" b="b"/>
            <a:pathLst>
              <a:path w="1196" h="260">
                <a:moveTo>
                  <a:pt x="0" y="145"/>
                </a:moveTo>
                <a:lnTo>
                  <a:pt x="122" y="256"/>
                </a:lnTo>
                <a:lnTo>
                  <a:pt x="790" y="260"/>
                </a:lnTo>
                <a:lnTo>
                  <a:pt x="1196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035680" y="4141800"/>
            <a:ext cx="1631880" cy="709560"/>
            <a:chOff x="5035680" y="4141800"/>
            <a:chExt cx="1631880" cy="709560"/>
          </a:xfrm>
        </p:grpSpPr>
        <p:graphicFrame>
          <p:nvGraphicFramePr>
            <p:cNvPr id="170" name=""/>
            <p:cNvGraphicFramePr/>
            <p:nvPr/>
          </p:nvGraphicFramePr>
          <p:xfrm>
            <a:off x="5035680" y="4457880"/>
            <a:ext cx="1631880" cy="39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35680" y="4457880"/>
                      <a:ext cx="16318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"/>
            <p:cNvSpPr/>
            <p:nvPr/>
          </p:nvSpPr>
          <p:spPr>
            <a:xfrm>
              <a:off x="5338080" y="4141800"/>
              <a:ext cx="99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ertex Array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725560" y="3846600"/>
            <a:ext cx="2314800" cy="734760"/>
          </a:xfrm>
          <a:custGeom>
            <a:avLst/>
            <a:gdLst/>
            <a:ahLst/>
            <a:rect l="l" t="t" r="r" b="b"/>
            <a:pathLst>
              <a:path w="1881" h="475">
                <a:moveTo>
                  <a:pt x="0" y="141"/>
                </a:moveTo>
                <a:lnTo>
                  <a:pt x="67" y="0"/>
                </a:lnTo>
                <a:lnTo>
                  <a:pt x="1637" y="3"/>
                </a:lnTo>
                <a:lnTo>
                  <a:pt x="1881" y="475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4835520"/>
            <a:ext cx="2138400" cy="352440"/>
          </a:xfrm>
          <a:custGeom>
            <a:avLst/>
            <a:gdLst/>
            <a:ahLst/>
            <a:rect l="l" t="t" r="r" b="b"/>
            <a:pathLst>
              <a:path w="1763" h="228">
                <a:moveTo>
                  <a:pt x="0" y="226"/>
                </a:moveTo>
                <a:lnTo>
                  <a:pt x="1627" y="228"/>
                </a:lnTo>
                <a:lnTo>
                  <a:pt x="1763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38600" y="3886200"/>
            <a:ext cx="1295280" cy="728640"/>
          </a:xfrm>
          <a:custGeom>
            <a:avLst/>
            <a:gdLst/>
            <a:ahLst/>
            <a:rect l="l" t="t" r="r" b="b"/>
            <a:pathLst>
              <a:path w="816" h="459">
                <a:moveTo>
                  <a:pt x="0" y="0"/>
                </a:moveTo>
                <a:lnTo>
                  <a:pt x="663" y="0"/>
                </a:lnTo>
                <a:lnTo>
                  <a:pt x="816" y="459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4149720"/>
            <a:ext cx="1260360" cy="611280"/>
          </a:xfrm>
          <a:custGeom>
            <a:avLst/>
            <a:gdLst/>
            <a:ahLst/>
            <a:rect l="l" t="t" r="r" b="b"/>
            <a:pathLst>
              <a:path w="816" h="459">
                <a:moveTo>
                  <a:pt x="0" y="0"/>
                </a:moveTo>
                <a:lnTo>
                  <a:pt x="663" y="0"/>
                </a:lnTo>
                <a:lnTo>
                  <a:pt x="816" y="459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43280" y="4616280"/>
            <a:ext cx="1262160" cy="284400"/>
          </a:xfrm>
          <a:custGeom>
            <a:avLst/>
            <a:gdLst/>
            <a:ahLst/>
            <a:rect l="l" t="t" r="r" b="b"/>
            <a:pathLst>
              <a:path w="795" h="179">
                <a:moveTo>
                  <a:pt x="0" y="0"/>
                </a:moveTo>
                <a:lnTo>
                  <a:pt x="645" y="0"/>
                </a:lnTo>
                <a:lnTo>
                  <a:pt x="795" y="179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43280" y="5029200"/>
            <a:ext cx="1228680" cy="128520"/>
          </a:xfrm>
          <a:custGeom>
            <a:avLst/>
            <a:gdLst/>
            <a:ahLst/>
            <a:rect l="l" t="t" r="r" b="b"/>
            <a:pathLst>
              <a:path w="774" h="81">
                <a:moveTo>
                  <a:pt x="0" y="81"/>
                </a:moveTo>
                <a:lnTo>
                  <a:pt x="645" y="81"/>
                </a:lnTo>
                <a:lnTo>
                  <a:pt x="774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16360" y="4781520"/>
            <a:ext cx="1994040" cy="376200"/>
          </a:xfrm>
          <a:custGeom>
            <a:avLst/>
            <a:gdLst/>
            <a:ahLst/>
            <a:rect l="l" t="t" r="r" b="b"/>
            <a:pathLst>
              <a:path w="1256" h="237">
                <a:moveTo>
                  <a:pt x="0" y="237"/>
                </a:moveTo>
                <a:lnTo>
                  <a:pt x="1088" y="237"/>
                </a:lnTo>
                <a:lnTo>
                  <a:pt x="1256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16360" y="4148280"/>
            <a:ext cx="2003400" cy="490320"/>
          </a:xfrm>
          <a:custGeom>
            <a:avLst/>
            <a:gdLst/>
            <a:ahLst/>
            <a:rect l="l" t="t" r="r" b="b"/>
            <a:pathLst>
              <a:path w="1217" h="309">
                <a:moveTo>
                  <a:pt x="0" y="1"/>
                </a:moveTo>
                <a:lnTo>
                  <a:pt x="1121" y="0"/>
                </a:lnTo>
                <a:lnTo>
                  <a:pt x="1217" y="309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3495600"/>
            <a:ext cx="3524400" cy="1133640"/>
          </a:xfrm>
          <a:custGeom>
            <a:avLst/>
            <a:gdLst/>
            <a:ahLst/>
            <a:rect l="l" t="t" r="r" b="b"/>
            <a:pathLst>
              <a:path w="2220" h="714">
                <a:moveTo>
                  <a:pt x="0" y="207"/>
                </a:moveTo>
                <a:lnTo>
                  <a:pt x="0" y="0"/>
                </a:lnTo>
                <a:lnTo>
                  <a:pt x="2058" y="3"/>
                </a:lnTo>
                <a:lnTo>
                  <a:pt x="2220" y="714"/>
                </a:lnTo>
              </a:path>
            </a:pathLst>
          </a:custGeom>
          <a:noFill/>
          <a:ln w="2844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62240" y="3571920"/>
            <a:ext cx="3166920" cy="1042920"/>
          </a:xfrm>
          <a:custGeom>
            <a:avLst/>
            <a:gdLst/>
            <a:ahLst/>
            <a:rect l="l" t="t" r="r" b="b"/>
            <a:pathLst>
              <a:path w="1995" h="657">
                <a:moveTo>
                  <a:pt x="3" y="171"/>
                </a:moveTo>
                <a:lnTo>
                  <a:pt x="0" y="0"/>
                </a:lnTo>
                <a:lnTo>
                  <a:pt x="1860" y="3"/>
                </a:lnTo>
                <a:lnTo>
                  <a:pt x="1995" y="657"/>
                </a:lnTo>
              </a:path>
            </a:pathLst>
          </a:custGeom>
          <a:noFill/>
          <a:ln w="2844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66960" y="3645000"/>
            <a:ext cx="2800440" cy="969840"/>
          </a:xfrm>
          <a:custGeom>
            <a:avLst/>
            <a:gdLst/>
            <a:ahLst/>
            <a:rect l="l" t="t" r="r" b="b"/>
            <a:pathLst>
              <a:path w="1764" h="611">
                <a:moveTo>
                  <a:pt x="0" y="122"/>
                </a:moveTo>
                <a:lnTo>
                  <a:pt x="3" y="0"/>
                </a:lnTo>
                <a:lnTo>
                  <a:pt x="1632" y="2"/>
                </a:lnTo>
                <a:lnTo>
                  <a:pt x="1764" y="611"/>
                </a:lnTo>
              </a:path>
            </a:pathLst>
          </a:custGeom>
          <a:noFill/>
          <a:ln w="2844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84360" y="3710160"/>
            <a:ext cx="2316240" cy="895320"/>
          </a:xfrm>
          <a:custGeom>
            <a:avLst/>
            <a:gdLst/>
            <a:ahLst/>
            <a:rect l="l" t="t" r="r" b="b"/>
            <a:pathLst>
              <a:path w="1459" h="564">
                <a:moveTo>
                  <a:pt x="1" y="66"/>
                </a:moveTo>
                <a:lnTo>
                  <a:pt x="0" y="4"/>
                </a:lnTo>
                <a:lnTo>
                  <a:pt x="1330" y="0"/>
                </a:lnTo>
                <a:lnTo>
                  <a:pt x="1459" y="564"/>
                </a:lnTo>
              </a:path>
            </a:pathLst>
          </a:custGeom>
          <a:noFill/>
          <a:ln w="2844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724360" y="5049720"/>
            <a:ext cx="792360" cy="1079640"/>
            <a:chOff x="5724360" y="5049720"/>
            <a:chExt cx="792360" cy="1079640"/>
          </a:xfrm>
        </p:grpSpPr>
        <p:sp>
          <p:nvSpPr>
            <p:cNvPr id="186" name=""/>
            <p:cNvSpPr/>
            <p:nvPr/>
          </p:nvSpPr>
          <p:spPr>
            <a:xfrm>
              <a:off x="5724360" y="5049720"/>
              <a:ext cx="792360" cy="1079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7" name=""/>
            <p:cNvGraphicFramePr/>
            <p:nvPr/>
          </p:nvGraphicFramePr>
          <p:xfrm>
            <a:off x="5819400" y="5137200"/>
            <a:ext cx="541800" cy="910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19400" y="5137200"/>
                      <a:ext cx="541800" cy="91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9" name=""/>
          <p:cNvGraphicFramePr/>
          <p:nvPr/>
        </p:nvGraphicFramePr>
        <p:xfrm>
          <a:off x="7343640" y="3968640"/>
          <a:ext cx="104760" cy="201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43640" y="3968640"/>
                    <a:ext cx="10476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770280" y="3608280"/>
                <a:ext cx="1486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tri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cto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sul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8278920" y="371628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128000" y="4508640"/>
          <a:ext cx="588960" cy="582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28000" y="4508640"/>
                    <a:ext cx="58896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8244000" y="4508640"/>
          <a:ext cx="588960" cy="582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44000" y="4508640"/>
                    <a:ext cx="58896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7129080" y="37162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8496360" y="3968640"/>
          <a:ext cx="108000" cy="2016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496360" y="3968640"/>
                    <a:ext cx="10800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7776720" y="4616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29440" y="4805280"/>
            <a:ext cx="1307880" cy="590760"/>
          </a:xfrm>
          <a:custGeom>
            <a:avLst/>
            <a:gdLst/>
            <a:ahLst/>
            <a:rect l="l" t="t" r="r" b="b"/>
            <a:pathLst>
              <a:path w="824" h="372">
                <a:moveTo>
                  <a:pt x="0" y="0"/>
                </a:moveTo>
                <a:lnTo>
                  <a:pt x="384" y="372"/>
                </a:lnTo>
                <a:lnTo>
                  <a:pt x="656" y="368"/>
                </a:lnTo>
                <a:lnTo>
                  <a:pt x="824" y="131"/>
                </a:lnTo>
              </a:path>
            </a:pathLst>
          </a:custGeom>
          <a:noFill/>
          <a:ln w="2844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0360" y="4797360"/>
            <a:ext cx="2803680" cy="912960"/>
          </a:xfrm>
          <a:custGeom>
            <a:avLst/>
            <a:gdLst/>
            <a:ahLst/>
            <a:rect l="l" t="t" r="r" b="b"/>
            <a:pathLst>
              <a:path w="1766" h="575">
                <a:moveTo>
                  <a:pt x="0" y="0"/>
                </a:moveTo>
                <a:lnTo>
                  <a:pt x="581" y="569"/>
                </a:lnTo>
                <a:lnTo>
                  <a:pt x="1466" y="575"/>
                </a:lnTo>
                <a:lnTo>
                  <a:pt x="1766" y="23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 repeatCount="1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"/>
                            </p:stCondLst>
                            <p:childTnLst>
                              <p:par>
                                <p:cTn id="218" nodeType="afterEffect" fill="hold" presetClass="entr" presetID="1" repeatCount="1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900"/>
                            </p:stCondLst>
                            <p:childTnLst>
                              <p:par>
                                <p:cTn id="224" nodeType="afterEffect" fill="hold" presetClass="entr" presetID="1" repeatCount="1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00509 C -0.0842 -0.06342 -0.39635 -0.32708 -0.49704 -0.35439 C -0.59774 -0.38171 -0.58333 -0.20787 -0.60607 -0.16921 E">
                                      <p:cBhvr>
                                        <p:cTn id="352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0486 -0.16204 C -0.50434 -0.13565 -0.12743 -0.03657 -0.00174 -0.0037 E">
                                      <p:cBhvr>
                                        <p:cTn id="358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166840" y="3645000"/>
            <a:ext cx="4811760" cy="23778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Linear Algebra Operators on GPUs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rix/Vector ope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uced to 2D texture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d in vertex/fragment sha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3321000"/>
            <a:ext cx="822960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uce operation for scalar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465280" y="4041720"/>
            <a:ext cx="4854600" cy="1984320"/>
            <a:chOff x="2465280" y="4041720"/>
            <a:chExt cx="4854600" cy="1984320"/>
          </a:xfrm>
        </p:grpSpPr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2465280" y="4041720"/>
              <a:ext cx="4213440" cy="19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970520" y="5373720"/>
              <a:ext cx="234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Reduce m x m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 fragment sh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Numerical Simulation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on GPUs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building blocks for more complex algorith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ion via tex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Conjugate Gradient Meth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1189080" y="3933720"/>
            <a:ext cx="72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cc"/>
                </a:solidFill>
                <a:latin typeface="Courier New"/>
              </a:rPr>
              <a:t>clMatVec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(CL_NOP,A,p,NULL,q);  </a:t>
            </a:r>
            <a:r>
              <a:rPr b="1" lang="de-DE" sz="1800" spc="-1" strike="noStrike">
                <a:solidFill>
                  <a:srgbClr val="008000"/>
                </a:solidFill>
                <a:latin typeface="Courier New"/>
              </a:rPr>
              <a:t>// q = 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a=r/</a:t>
            </a:r>
            <a:r>
              <a:rPr b="1" lang="de-DE" sz="1800" spc="-1" strike="noStrike">
                <a:solidFill>
                  <a:srgbClr val="0000cc"/>
                </a:solidFill>
                <a:latin typeface="Courier New"/>
              </a:rPr>
              <a:t>clVecReduc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(CL_ADD,p,q);  </a:t>
            </a:r>
            <a:r>
              <a:rPr b="1" lang="de-DE" sz="1800" spc="-1" strike="noStrike">
                <a:solidFill>
                  <a:srgbClr val="008000"/>
                </a:solidFill>
                <a:latin typeface="Courier New"/>
              </a:rPr>
              <a:t>// a = r/dot(p,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cc"/>
                </a:solidFill>
                <a:latin typeface="Courier New"/>
              </a:rPr>
              <a:t>clVecOp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(CL_ADD,1,a,x,p,s);    </a:t>
            </a:r>
            <a:r>
              <a:rPr b="1" lang="de-DE" sz="1800" spc="-1" strike="noStrike">
                <a:solidFill>
                  <a:srgbClr val="008000"/>
                </a:solidFill>
                <a:latin typeface="Courier New"/>
              </a:rPr>
              <a:t>// s = x+ap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Numerical Simulation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on GPUs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: 2D wave eq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ite difference discret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icit Crank-Nicholson sche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08720" y="5084640"/>
                <a:ext cx="34383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d>
                      </m:e>
                      <m:e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588000" y="4113360"/>
                <a:ext cx="110016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f>
                          <m:num>
                            <m:sSup>
                              <m:e>
                                <m:r>
                                  <m:t xml:space="preserve">Δ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Δc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332000" y="3233880"/>
            <a:ext cx="381636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427640" y="2247840"/>
            <a:ext cx="3168720" cy="2430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427640" y="2114640"/>
            <a:ext cx="3168720" cy="25653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Numerical Simulation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on GPUs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: 2D Incompressible N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ggered gri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sta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usion explic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ection Semi-Lagrange [Stam 1999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icit CG solver for Poisson Equ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DEMOS</a:t>
            </a: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584360" y="2060640"/>
            <a:ext cx="42130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Run 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tel Pentium IV 2.4GH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Arial"/>
              </a:rPr>
              <a:t>ATI Radeon 9800 P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crosoft Windows X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irectX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ixel/Vertex Shader 2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al-time visual simulation on GP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ctor/Matrix re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s linear algebra op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merical techn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rrent limit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ory size and upd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PU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PU data transf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Future Work</a:t>
            </a: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ientific computing libr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LAS/LAPACK functionality on GP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FT, wavelets, multigrid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 data, i.e. 3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ndering functionality, i.e. volu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-GPU parallel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The Year 2003</a:t>
            </a: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ilestone in GPU programm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mable function pipe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der op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934920" y="288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The Year 2003</a:t>
            </a: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ilestone in GPU programm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s go numer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affair with consequ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934920" y="288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57400" y="2816280"/>
            <a:ext cx="5029200" cy="1066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19280" y="467352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9244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Thompson et al. [2002]</a:t>
            </a: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olz et al. [2003]</a:t>
            </a: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Hillesland et al. [200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9244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Goodnight et al. [2003] </a:t>
            </a: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Moreland [2003]</a:t>
            </a: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Harris et al. [2003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9244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Kim and Lin [2003]</a:t>
            </a: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Li et al. [2003]</a:t>
            </a: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…</a:t>
            </a:r>
            <a:r>
              <a:rPr b="0" lang="de-DE" sz="1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The Year 2003</a:t>
            </a: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nd of an odysse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ldly sailors through troubled wa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ized solutions build on fixed function pipe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934920" y="288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2673360"/>
            <a:ext cx="712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Bohonen [1998]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Heidrich et al. [199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Hopf and Ertl [1999,2000]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Jobard et al. [200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Hart [2001]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Strzodka and Rumpf [200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Weiskopf et al.[2001]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nVidia [2002]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yr4"/>
          <p:cNvSpPr/>
          <p:nvPr/>
        </p:nvSpPr>
        <p:spPr>
          <a:xfrm>
            <a:off x="2043000" y="4662360"/>
            <a:ext cx="5058000" cy="1133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The Year 2003</a:t>
            </a: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ur approa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yr2"/>
          <p:cNvSpPr/>
          <p:nvPr/>
        </p:nvSpPr>
        <p:spPr>
          <a:xfrm>
            <a:off x="3351240" y="2403360"/>
            <a:ext cx="2441520" cy="11336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yr3"/>
          <p:cNvSpPr/>
          <p:nvPr/>
        </p:nvSpPr>
        <p:spPr>
          <a:xfrm>
            <a:off x="2629080" y="3492360"/>
            <a:ext cx="3886200" cy="1176480"/>
          </a:xfrm>
          <a:prstGeom prst="pi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8840" y="3757680"/>
            <a:ext cx="502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U as workhor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umerical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8840" y="2457360"/>
            <a:ext cx="502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39520" y="2548080"/>
            <a:ext cx="6624360" cy="807840"/>
            <a:chOff x="839520" y="2548080"/>
            <a:chExt cx="6624360" cy="807840"/>
          </a:xfrm>
        </p:grpSpPr>
        <p:sp>
          <p:nvSpPr>
            <p:cNvPr id="107" name=""/>
            <p:cNvSpPr/>
            <p:nvPr/>
          </p:nvSpPr>
          <p:spPr>
            <a:xfrm>
              <a:off x="1740600" y="2548080"/>
              <a:ext cx="18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Visual sim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47240" y="2781360"/>
              <a:ext cx="19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Visual comp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9520" y="2987640"/>
              <a:ext cx="25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ducation and Trai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892800" y="3811680"/>
            <a:ext cx="7358040" cy="642600"/>
            <a:chOff x="892800" y="3811680"/>
            <a:chExt cx="7358040" cy="642600"/>
          </a:xfrm>
        </p:grpSpPr>
        <p:sp>
          <p:nvSpPr>
            <p:cNvPr id="111" name=""/>
            <p:cNvSpPr/>
            <p:nvPr/>
          </p:nvSpPr>
          <p:spPr>
            <a:xfrm>
              <a:off x="892800" y="3811680"/>
              <a:ext cx="19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sis linea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gebra operat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86040" y="3811680"/>
              <a:ext cx="186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ral lin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gebra pack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058840" y="5013360"/>
            <a:ext cx="502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G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74880" y="4976640"/>
            <a:ext cx="7196400" cy="642600"/>
            <a:chOff x="974880" y="4976640"/>
            <a:chExt cx="7196400" cy="642600"/>
          </a:xfrm>
        </p:grpSpPr>
        <p:sp>
          <p:nvSpPr>
            <p:cNvPr id="115" name=""/>
            <p:cNvSpPr/>
            <p:nvPr/>
          </p:nvSpPr>
          <p:spPr>
            <a:xfrm>
              <a:off x="974880" y="4976640"/>
              <a:ext cx="121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ndwid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39000" y="4976640"/>
              <a:ext cx="123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alle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2230560" y="3105000"/>
            <a:ext cx="4681440" cy="2595600"/>
            <a:chOff x="2230560" y="3105000"/>
            <a:chExt cx="4681440" cy="259560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2230560" y="3536640"/>
              <a:ext cx="468144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593880" y="310500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anded Matr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079640" y="3110040"/>
            <a:ext cx="6945120" cy="2732040"/>
            <a:chOff x="1079640" y="3110040"/>
            <a:chExt cx="6945120" cy="273204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1079640" y="3614760"/>
              <a:ext cx="6945120" cy="22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73920" y="3110040"/>
              <a:ext cx="275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Random Sparse Matr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Our Contribution</a:t>
            </a: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amework for sparse/dense matrix-vector operations on GP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727280" y="3105000"/>
            <a:ext cx="5761080" cy="2592360"/>
            <a:chOff x="1727280" y="3105000"/>
            <a:chExt cx="5761080" cy="2592360"/>
          </a:xfrm>
        </p:grpSpPr>
        <p:sp>
          <p:nvSpPr>
            <p:cNvPr id="126" name=""/>
            <p:cNvSpPr/>
            <p:nvPr/>
          </p:nvSpPr>
          <p:spPr>
            <a:xfrm>
              <a:off x="3688920" y="3105000"/>
              <a:ext cx="176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ense Matr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1727280" y="3576600"/>
              <a:ext cx="5761080" cy="2120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500"/>
                            </p:stCondLst>
                            <p:childTnLst>
                              <p:par>
                                <p:cTn id="9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324480" y="3076560"/>
            <a:ext cx="2629080" cy="2411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67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Our Contribution (cont.)</a:t>
            </a: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6560" y="164772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Implicit schemes for solving sets of algebraic equation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264360" y="2924280"/>
            <a:ext cx="2577960" cy="2471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1280" y="2889360"/>
            <a:ext cx="44272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2508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7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Navier-Stokes Equations on GPU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667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Our Contribution (cont.)</a:t>
            </a: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3052800"/>
            <a:ext cx="2629080" cy="2411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92720" y="2924280"/>
            <a:ext cx="2649600" cy="242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368360" y="3068640"/>
                <a:ext cx="3924360" cy="21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u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den>
                        </m:f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∇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∇</m:t>
                        </m:r>
                        <m:r>
                          <m:t xml:space="preserve">p</m:t>
                        </m:r>
                      </m:e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den>
                        </m:f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∇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∇</m:t>
                        </m:r>
                        <m:r>
                          <m:t xml:space="preserve">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2510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8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Visual Simulation of fluid phenomena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rtual Reality, G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aching, Edu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667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Our Contribution (cont.)</a:t>
            </a:r>
            <a:endParaRPr b="1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3968640"/>
            <a:ext cx="6156360" cy="1297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0000" y="3851280"/>
            <a:ext cx="6145200" cy="130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3170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Jens Krüger</cp:lastModifiedBy>
  <dcterms:modified xsi:type="dcterms:W3CDTF">2004-04-14T12:48:01Z</dcterms:modified>
  <cp:revision>169</cp:revision>
  <dc:subject/>
  <dc:title>Slide 1</dc:title>
</cp:coreProperties>
</file>